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952-4CF0-459C-B728-5F4D7ED2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1DE-D3FB-4DDE-A7A0-A2669C67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889-ECEE-42AE-9C44-CCB74CFE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81E-15B7-44F5-B158-656F1DB5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1D68-2E40-4463-8F7C-15CB643C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C5E-3715-4F87-9B0A-C9BDE8A2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2355-AA8E-4795-B425-62D367B3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8AB-A6EA-4FCD-AD80-97791200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387-054A-499B-9B2A-9DE4F779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A1F-6688-457C-A978-1B883B5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6F8-BE84-43A3-9562-E7CF581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D95-FCEF-466A-A0C2-A29FBEE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43DE-1FAC-4A28-B7C9-DD32F7DD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0527-7F91-48AC-85A4-CB4AF49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8057-D6A3-4EC6-ADDA-DB8503B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F189-3AD9-46CB-BD56-7DA1B2FA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68C6-4950-4C0C-BFC6-3138A20E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B13-C3BA-4DAC-A806-C00971F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008-C057-424C-87DF-7E8B703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3A8-573A-4A84-B7C4-191F0C1B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101-1C02-4A49-9507-981117B8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37C-B1A3-4B76-9912-39C74EDF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B0E-55C8-4FE7-BBD6-B08392B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FCE-5566-4FA4-B165-32BC954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7BF6-82A8-4EC2-A23A-9F5729F7A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623F-E6C8-414E-8A7A-6DABFF1C90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ревнегреческий Лике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льгельм Кюхельбек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0800" y="1066680"/>
            <a:ext cx="518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ван Пущи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81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238720" cy="609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523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14:26:58Z</dcterms:created>
  <dc:creator>1</dc:creator>
  <dc:description/>
  <dc:language>en-US</dc:language>
  <cp:lastModifiedBy>1</cp:lastModifiedBy>
  <dcterms:modified xsi:type="dcterms:W3CDTF">2018-12-07T19:59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